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B068-2656-4712-A86E-1DF848A8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232-181B-455D-82E0-21C1347B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7501-DF19-4402-A034-D5E54611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DC37-C900-4845-A621-5F6E859B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9EB-A01A-4C48-9B01-1364B3DB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55F1-51F4-4217-9172-5E95F4A6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12BB-CEC2-4E7E-9BAF-8EE91217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75EC-CC9C-4680-8A37-116A83F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9E42-561F-447B-ADB0-97090F6B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5E47-AB18-43EB-AFB2-7CF17A99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90BA-F1FF-4BED-8897-CFFCC1B9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E7E-5FC4-4FFC-B542-AC816A1C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FB9F-0640-4A02-8751-B41B3B18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C251-790E-40B6-BD91-824A06BB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477-7FA4-4AC1-961E-09D06D80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232D-67A0-4A01-877F-09A15134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6250-3FAA-497C-8A4D-BBC45192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087-A298-4F81-BD55-C7956855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C0E9-1A78-4899-9C68-2C04F580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826B-7166-4770-ABDB-8FF02261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324-2509-4548-BB97-8796E6A1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348-1F82-4825-B21B-3D1AEC7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A1A-A902-4E01-9752-EACE0E97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4AA-EF6C-4D3B-AAF2-54AF1280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587-E9A7-4F5F-B525-7142F1147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1704-11F2-4BB8-A311-D61B71764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Educatio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esher Brief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ther Marking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Only (old NOFORN): do not release to foreign nat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CON: Originator contro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ed Data/Formerly Restricted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via ____ Cha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document is unclassified when classified attachments are remov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classif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s are marked for automatic declassification within ten years unles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document is exempt from automatic declassification at 10 years under E.O. 12958.  Additional reviews at 10 and 5 year interv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ified documents are declassified at 25 years (with a few exceptions). No document series at Commerce are exemp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of Classifi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d for Secret and Top Secr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form CD481 (will be switched to a computer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who, what, when, where, h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inventory is required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878360" y="1981080"/>
          <a:ext cx="336240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8360" y="1981080"/>
                    <a:ext cx="336240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ccountability cont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nual review must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of classified hold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tion of what classified is still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er disposal of unneeded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108400" y="1981080"/>
          <a:ext cx="290196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8400" y="1981080"/>
                    <a:ext cx="290196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orage of Materi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sitive, FOUO, Privacy Act, proprietary information must be stored under one level of lock (desk, drawer, file cabine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information must be stored in a GSA approved security container (safe)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each safe should have a SF700, SF702 and open/closed sig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urity container must contain an accurate SF-7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binations are classified at the level of information in the saf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uld always be memorized; never write them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n’t share with anyone who does not need to know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binations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your security container combination when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ainer is found open and unat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one who has the combination lea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feel the combination has been compromi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 security container is taken out of ser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ol and A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are responsible for protecting and controlling classified inform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must limit access to authorized persons by verifying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ed-to-Kn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48320" y="2570040"/>
          <a:ext cx="3822480" cy="29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70040"/>
                    <a:ext cx="382248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Telephone/Fax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ways use a STU III phone or f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and cell phones are not sec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re a secure phone in your office?  If not, where is the nearest on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48320" y="2798640"/>
          <a:ext cx="3822480" cy="24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798640"/>
                    <a:ext cx="382248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Information: Double Wrapp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st be done to prepare for hand carry, courier, or US Pos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ords 2 layers of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dam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paque envelo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a recei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wrapping: full addr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ification markings top/bottom and front/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and receipt placed in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ecurity Clear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 being rebriefed because you hold a security clearance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, a security clearance is not permanent; it expires when you leave your posi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 SF-312 Non-Disclosure Agreement is still in effect.  It is a life long agreement between you and the U.S. Govern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ter Wrapp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address of rece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ll return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LASSIFICATION MARK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 that you put “If undeliverable, return to sende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miss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nd Top Secret: call your security offic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 and Confident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-car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roved cour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 Postal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Carry: No overnight stay without proper sto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ircraft overs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ier: check author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Post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ret: Regist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dential: Certified, Express or First cla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puter Security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 not process classified unless: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have contacted your information technology represent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computer has a removable hard dr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in a stand-alone configuration (no modem/network unless accredi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48320" y="2241720"/>
          <a:ext cx="3822480" cy="36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41720"/>
                    <a:ext cx="382248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Inform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rious ways to reproduce classified inform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per (photocopi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on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means (video and/or casset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pproved equipment for that purp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 for your copi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roduction of Classified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ved photocopier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in controlled enviro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have mem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anitized after classified copie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serviced by cleared personnel or service personnel are monitored while repairs are m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ct your security officer if your copier jams while working with class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struction of Classified and Sensitive Inform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material destr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ved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redding (using an approved cross cut shred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small classified waste “burn bag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types (FOUO, Privacy Act, SBU, etc.)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BU should be shredded using cross cut shredder.  At a minimum tear up other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verseas Trav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5800" y="2576520"/>
          <a:ext cx="3822840" cy="29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76520"/>
                    <a:ext cx="3822840" cy="29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your security officer for a briefing before you 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bring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sensitive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ify U.S. Embassy of your vi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porting Require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employees must report contact with a foreign national wh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s classified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nts more information than they need to kn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s suspiciou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incident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nd of Day Chec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security conta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s/do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k tops for class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te the SF701 “Activity Security Checklist.” The office manager is responsible for implementing the SF 701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48320" y="1989000"/>
          <a:ext cx="382248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9000"/>
                    <a:ext cx="382248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r Security Offic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security officer is there to help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to your security offic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vio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r compromise of classified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incidents or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1720" y="1981080"/>
          <a:ext cx="2695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1720" y="1981080"/>
                    <a:ext cx="2695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roper Disclosure: Penal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Pl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 Rating/A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rimands/Suspensions (Without P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monetary gains made from improper disclo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ss of security clea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ination of employ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minal prosecution (prison/fin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You Depart 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leaving the Department, you mus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over all classified material to your classified control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debriefed by your Security Offi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 in all keys, ID, and access c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19720" y="1981080"/>
          <a:ext cx="2479680" cy="41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9720" y="1981080"/>
                    <a:ext cx="2479680" cy="41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nally…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responsible for security at the Department of Commer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ARE!   Have a secure day!  Remember, SECURITY MATTE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6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PARTMENT OF COMMERCE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FFICE OF SECURIT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EASTERN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1337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Eastern Regional Security Offic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m Ruhl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tern Regional Asst. Security Offic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we protect classified informat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onomic espionage is on the r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lligence needs are economic as well as milit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/former adversaries and our allies are conducting intelligence activities against 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hreat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forget the insid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erintelligence is your responsibil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rt suspicious activities to your Security Officer immediat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48320" y="2319480"/>
          <a:ext cx="382248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9480"/>
                    <a:ext cx="382248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Docum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 and/or subject should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graphs and sub-paragraph must be mark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llustrations and pictures al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ll classification is determined by the highest portion mar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 classification on top/bottom of every p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ttom of the document should have the follow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ed by: Jack Smith, Director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 for Classification: 1.5 (d) E.O. 1295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1 June 2007 or x1-8 (exemp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derivatively classifying a document, the bottom right corner of the should hav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by: Carroll Ward, DOC, O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from: CIP Terrorism Report, 3/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ssify on: 3/1/07 (or x1-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rivative Marking cont.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derivatively classifying a document using multiple sources, either list each source or list “multiple sources” and maintain a list of the sources on file cop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ways use the most stringent declassification d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source is marked OADR, list “Source marked OADR” and list date of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30T13:42:50Z</dcterms:created>
  <dc:creator/>
  <dc:description/>
  <dc:language>en-US</dc:language>
  <cp:lastModifiedBy>Carroll.R.Ward</cp:lastModifiedBy>
  <cp:lastPrinted>1997-10-17T18:30:43Z</cp:lastPrinted>
  <dcterms:modified xsi:type="dcterms:W3CDTF">2008-06-10T19:53:59Z</dcterms:modified>
  <cp:revision>13</cp:revision>
  <dc:subject/>
  <dc:title>NSI REBRIEF</dc:title>
</cp:coreProperties>
</file>